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77756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2200" y="4130640"/>
            <a:ext cx="77756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2200" y="413064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680" y="413064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1280" y="198108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360" y="198108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2200" y="413064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1280" y="413064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360" y="413064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653A6-E79A-4A77-8F2E-4149A215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200" y="19810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6A9B7-7BA7-4580-9612-2DC16EFF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835F4-C3B7-401B-8696-EC04C275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794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4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65734-DCDF-46F7-989C-E655E3D7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7670A-2248-464C-B050-DE597E3C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E9B4D-CDEA-4B96-AD37-BAE244CE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4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200" y="413064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7E6D9-1A73-4015-BFAE-17EC14C6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2200" y="19810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794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6680" y="413064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3CA33-3FAA-4816-A7A7-43EF6505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200" y="4130640"/>
            <a:ext cx="77756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7B367-CF75-4CCF-B2F9-9F6F58A5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77756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200" y="4130640"/>
            <a:ext cx="77756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E2970-170C-4DFB-A918-EFDB42B7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200" y="413064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6680" y="413064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7F7C3-5416-44CE-B726-2F1845D8A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1280" y="198108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0360" y="198108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200" y="413064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1280" y="413064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0360" y="4130640"/>
            <a:ext cx="25034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CDFCF-1A77-485D-A143-604D53819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794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4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4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2200" y="413064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794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680" y="413064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4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2200" y="4130640"/>
            <a:ext cx="77756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200" y="19810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82560" y="6365880"/>
            <a:ext cx="3355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Koch-107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612720" cy="63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4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8EF0-131C-4E58-A112-DCD0AC7F09E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1B0C-92F1-424C-BFB7-112FE2C5A9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</a:rPr>
              <a:t>What Is Christianity?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76520" y="2742840"/>
            <a:ext cx="716256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 Review of the Essential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. Felix Just, S.J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III-A:  Church Organiz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urches &amp; Denominations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rical divisions: always! esp. 1054, 1517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also reunifications &amp; merg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s with each Churc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. parishes/congregations, local dioceses, national conferences, international associ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ders within each Churc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hops (incl. Pope, cardinals), priests, deacons, lay ministers;  pastors, elder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III-B:  Internal Regula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shi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 can join?  What is the process? (evangelization;  catechesis;  initi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dership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are leaders chosen?  Who is eligib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iplin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are members’ &amp; leaders’ obligations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ctions and punishments? (Canon Law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III-C: External Rela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umenical Rel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ogues between Christian denominations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lateral &amp; international groups (WC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-religious Rel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ogues with other major world religions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. with Judaism &amp; Islam (historically clo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urch/State Rel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peration or tensions with political, social, economic, and other secular instituti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480"/>
            <a:ext cx="80805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REVIEW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256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804600" indent="-8046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ry &amp; Develop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156680" indent="-70416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rical Foundations &amp;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56680" indent="-70416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anches, Divisions, Demo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04600" indent="-8046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 Beliefs &amp; Practi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156680" indent="-70416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ndational Texts:  Bible, Creed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56680" indent="-70416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 Teachings:  Theological &amp; Eth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56680" indent="-70416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Practices:  Liturgical &amp; Spirit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04600" indent="-8046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s &amp; Regul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156680" indent="-70416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tion, Leadership, Memb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56680" indent="-70416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l Rules;  External Re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80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inal Exam: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Essay Ques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522720" indent="-522720">
              <a:lnSpc>
                <a:spcPct val="100000"/>
              </a:lnSpc>
              <a:spcAft>
                <a:spcPts val="751"/>
              </a:spcAft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the core beliefs and practices of Christianity?  (What is common to all Orthodox, Catholic, and Protestant Xns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2720" indent="-522720">
              <a:lnSpc>
                <a:spcPct val="100000"/>
              </a:lnSpc>
              <a:spcAft>
                <a:spcPts val="751"/>
              </a:spcAft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some of the most important differences in theology and praxis between Orthodox, Catholic, and Protestant Xn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2720" indent="-522720">
              <a:lnSpc>
                <a:spcPct val="100000"/>
              </a:lnSpc>
              <a:spcAft>
                <a:spcPts val="751"/>
              </a:spcAft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as (and still is) the impact of the Second Vatican Council on Christianity (both the Catholic Church and others)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2720" indent="-522720">
              <a:lnSpc>
                <a:spcPct val="100000"/>
              </a:lnSpc>
              <a:spcAft>
                <a:spcPts val="751"/>
              </a:spcAft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ribe the typical processes of Christian Initiation  (Baptism-Confirmation-Eucharist)?  Differences for Orthodox, Catholics, Protestants?  Differences for infants vs. adults in Catholicism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2720" indent="-522720">
              <a:lnSpc>
                <a:spcPct val="100000"/>
              </a:lnSpc>
              <a:spcAft>
                <a:spcPts val="751"/>
              </a:spcAft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ribe the wide variety of Christian "vocations"  (how God "calls" Xns to live; religious &amp; lay; historical differences;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2720" indent="-522720">
              <a:lnSpc>
                <a:spcPct val="100000"/>
              </a:lnSpc>
              <a:spcAft>
                <a:spcPts val="751"/>
              </a:spcAft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"Scripture" and "Tradition"?  How are they related in Catholic theology?  …in other branches of Christianit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480"/>
            <a:ext cx="80805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inal Exam: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Practical Tip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769160" cy="4343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encourage you to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udy togeth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ith your regular group or with other student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ing several pens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n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mall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lue Book,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r Bible, and your one page of note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xam will take most students about two hours; some a little more or les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Well  &amp;  Good Luck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ntroduction: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256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ristian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jor world relig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“Western” religion (w/ Judaism &amp; Isla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orld religion today (ca. 2 billion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based on belief tha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sus of Nazare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ri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 ( “Messiah”) &amp; the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of Go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”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ke most other major world religions, Christianity has several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 aspec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)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ry &amp;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)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 Beliefs &amp; Pract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I)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s &amp; Regu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I-A:  Histo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rical Background: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aham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raelites, Hebrews, Jews, 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rical Foundation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sus of Nazare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ucified ca. AD 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 his first disciples/apost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rical Development: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 preserved/adapted 2000 year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play of both old &amp; new, ancient &amp; moder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I-B:  Branches &amp; Subdivi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7845480" cy="4648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jor Christian Branch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astern) Orthodox, (Roman) Catholic, Anglican, Protestant, Restorationist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thodox, Anglicans, Protestants: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: by nation &amp; language: Greek, Russian…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: by nations: esp. former British coloni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: by leaders/theologies: Lutheran, Reformed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s within Catholicism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igious orders &amp; societies (monastic, mendicant, apostolic, etc.), lay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I-C:  Demograph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0740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Christians World-wide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~ 2 billion in 2000;  ~ 33% of world po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divisions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bill. Catholics;  500 mill. Protestant/Anglican; 250 mill. Orthodox;  250 mill. 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% of Populations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8% Africa;  85% N. America;  93% S. America; 9% Asia;  76% Europe;  85% Oceani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II-A:  Foundational Tex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bl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ial collection of books, in two parts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Old Testament &amp; New Test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reed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rt professions of faith, defined by first two Ecumenical Councils: Nicea &amp; Constantino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Writing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ings of Church leaders throughou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ry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. founders of orders &amp; denom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II-B:  Core Theological Beliefs</a:t>
            </a:r>
            <a:br>
              <a:rPr sz="44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    (Dogmas &amp; Doctrines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God in Three Persons (Trinity)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ther / Almighty / Creat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/ Jesus / Christ / Savior / Lor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ly Spirit / Giver of Life / Paracle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&amp; Huma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d by God, in God’s image, with free will;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iginally good, but corrupted by sin/death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urch, Salvation, Eschatolog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 of believers; body of Christ; resurrection of the body; eternal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II-C:  Core Ethical Teachings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          </a:t>
            </a: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(Commandments &amp; Precepts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ndational Principl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good &amp; avoid evil;  love God, others, self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 an “informed conscienc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xual Moralit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al purpose of sex;  consistent ethic of life;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man relationships;  central role of fam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al Ethic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gnity of each person;  common good;  care of the poor/needy;  work, participation, proper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II-D:  Religious Pract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endar, Feasts, &amp; Festiv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ent &amp;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ristm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 Lent &amp;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t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ints’ days;  local &amp; universal festiv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/ Communal Worshi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ial liturgies, rites, rituals, Sacrament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. Baptism &amp; Eucharist;  Sunday wo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 / Individual Spiritualit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yer, devotions, pilgrimages, asceticism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reats, pious/spiritual practice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hat Is Christianity?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elix Just, SJ</cp:lastModifiedBy>
  <dcterms:modified xsi:type="dcterms:W3CDTF">2006-05-07T07:32:04Z</dcterms:modified>
  <cp:revision>14</cp:revision>
  <dc:subject/>
  <dc:title>PowerPoint Presentation</dc:title>
</cp:coreProperties>
</file>